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3AF-A3F7-4924-8BE8-E2399214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DAC-2D92-4C77-B571-421B4A9C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5A1-CDF6-4961-B88E-55A837DB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6CD-70D6-4F4D-A41A-DBAA2EEE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A563-BDDF-4CD9-BB9B-C8716F88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4FB0-926A-4726-8514-E9958AFD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E27-1847-4C3E-9E7B-DB77D047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30C2-18D3-4ABF-99D0-110090D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585-04EE-4EA2-90F3-7C2B5409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1D27-CBB3-4EB3-93E0-3B8D1BC0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530-B7AE-41A5-A10C-E1165174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C84-179D-4EA7-98BF-0C51040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A794-14D1-4969-B3DB-9705AE46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CFB3-51A9-47F0-B19F-363BB158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E5E5-E2C6-4600-B2FC-B3896A55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AC63-5F47-4DE9-A347-F44284CC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C377-0BCD-443F-BCE3-AF3281DB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715-EB46-487A-9B17-981778D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0F0-13B2-499E-A624-0A7D5BF7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5E3-139E-433C-9771-82D09B2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F2F-DFC3-4394-941C-BAA4F4D7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DA6-468E-4337-B4CB-CC4F2930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B45-C182-431B-A324-E865A51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66C-1499-4941-851C-A557FE83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8E0C-F7A7-4075-85F2-E716AEA4EA5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DBBE-1490-4BB1-8E47-B94878E15BF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terite verbs ending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car, -gar, and -z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regular yo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fútbol por la tard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l piano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l piano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tarde a cl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tarde a cl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9810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cuenta en el restaurant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810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cuenta en el restaurant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2438280" y="2438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a tarde agradable con mi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a tarde agradable con mi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438280" y="19810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escribir una composición para la clase de inglé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c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sa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sac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sac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sac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escribir una composición para la clase de inglé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19810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905120" y="220968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basura y limpié la cas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905120" y="220968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basura y limpié la cas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2209680" y="20574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rop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rop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362320" y="25146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casa con mi famili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casa con mi famili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981080" y="19810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guitarra y canté unas cancione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981080" y="19810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guitarra y canté unas cancione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438280" y="18288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mi abuel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r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lle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g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lleg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lleg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leg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leg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lleg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mi abuel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2362320" y="25146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r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981080" y="21337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 _________ una lección difícil a mi hermanit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l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981080" y="21337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 _________ una lección difícil a mi hermanit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3276720" y="1981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l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ajedrez con Jorg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ajedrez con Jorg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251460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libros en la biblioteca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libros en la biblioteca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2438280" y="20574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río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río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25909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bosque con mi padr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z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go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goz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goz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z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z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goz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bosque con mi padr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2362320" y="1981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990720" y="304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 má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 má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990720" y="1523880"/>
            <a:ext cx="7315200" cy="476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2438280" y="259092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fútbol por la tard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7:58:34Z</dcterms:created>
  <dc:creator>Paul Widergren</dc:creator>
  <dc:description/>
  <dc:language>en-US</dc:language>
  <cp:lastModifiedBy> </cp:lastModifiedBy>
  <dcterms:modified xsi:type="dcterms:W3CDTF">2009-09-30T20:01:03Z</dcterms:modified>
  <cp:revision>28</cp:revision>
  <dc:subject/>
  <dc:title>Preterite verbs ending in -car, -gar, and -zar</dc:title>
</cp:coreProperties>
</file>